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8AF-BF90-402C-ABBB-9FB824CC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207-2CCF-4F52-894E-CE089C85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7A1-4190-443E-BE74-5A5AC105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866-B553-41C0-BF07-7EDDCF2F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DAC-7C6D-4B35-80C2-6B49BDB7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2E63-CDBC-4A7C-9DF7-04E1D189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A612-97D4-4F86-A098-0C8890F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7B74-CD5D-4F60-AE6D-3E595D7C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A1C4-8B46-48A0-82C7-A06E9552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8D4B-7E85-400B-8BF4-9C945A64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0D0F-FA80-4B35-B9BD-3357E78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962-FA49-4540-8729-4C80B189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80C6-B538-428B-A7B4-457161FE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C877-D44E-43A0-9BF0-B2F5410E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977E-1B76-4544-89FF-D2850276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7F69-6291-47C5-A292-89707DB5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3226-D096-4290-92D7-69F1CC96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76E-A6EE-4D15-98FB-10FFAC4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92F-E24E-422F-AAC9-B8C46F02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F89-EDE6-41C8-802D-1216E1E8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9BC-BF7E-45EA-B425-C347E034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AFA-6DB2-4842-884E-7BC30AF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5DF-5C60-4E91-9E6A-DE65C5B0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433-314A-4D31-B90A-C7BFAD92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F9CF-5632-4D0D-9618-D908074AB6AE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373392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8e2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1462-4408-4FD3-9BA9-3D98D43943B2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SzPct val="7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o Tell The Good News – Part 1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Quarter 11, Lesson 11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cts 12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ages 61-64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8D00-A25C-43DE-947C-BB2A1305351E}" type="slidenum">
              <a:t>1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ringing Us Back Up To Dat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Work Begins – Acts 1-2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e Day of Pentecost – Acts 2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3000 Convicted and Converted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onflict Begins – Acts 3-7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Jewish Persecu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toning of Stephe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Church is Scattered – Acts 8-12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amaritans converte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Gentiles Converte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BE6-9364-435E-885A-FB8C069BA060}" type="slidenum">
              <a:t>2</a:t>
            </a:fld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c03"/>
                </a:solidFill>
                <a:latin typeface="Impact"/>
              </a:rPr>
              <a:t>Roman Emperor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ugusta Caesar – 31 B.C. to A.D. 14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iberius Caesar – A.D. 14-37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ligula – A.D. 37-41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audius – A.D. 41-54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HERE at 44 A.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Nero – A.D. 54-68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Vespasian – A.D. 69-79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D68-EBF9-46C7-AE61-57A840470F28}" type="slidenum">
              <a:t>3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643720" y="685800"/>
            <a:ext cx="3289320" cy="5105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91320" y="58672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Agrippa kills James and imprisons Peter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957-F0F3-476B-8215-BE6960F6DB9A}" type="slidenum">
              <a:t>4</a:t>
            </a:fld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 New Wave of Persecution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rod Agrippa I tried to please the Jews – 44 A.D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James, the brother of John, is the first apostle to be executed – Acts 12:2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Peter was taken prisoner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 miraculous deliverance – the power of pray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 comforted group of disciple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A worm-eaten “god” received justic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ictory is with the Lamb of God – The gospel spread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E69-2CE8-4C25-82BC-C1A21F85FA97}" type="slidenum">
              <a:t>5</a:t>
            </a:fld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he Death of Herod</a:t>
            </a:r>
            <a:br>
              <a:rPr sz="44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Acts 12:20-24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rod Agrippa I had cut off the food supply to Phoenic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ey sent representatives to make peace with Herod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ey made friends with Blastu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Herod was going to drop the hostiliti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t a date for a hearing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Dressed himself in royal appar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de an arousing speech of conciliatio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eople called him a god, not a man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C2B-6794-49FB-B90C-D9122E7DFB64}" type="slidenum">
              <a:t>6</a:t>
            </a:fld>
          </a:p>
        </p:txBody>
      </p:sp>
    </p:spTree>
  </p:cSld>
  <p:transition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he Death of Herod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Acts 12:20-24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 angel of God smote Hero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rod had accepted the glory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 was eaten with worms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He died 5 days later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word of God gained many convert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D3F-2D08-4948-9E36-7798F7B4B884}" type="slidenum">
              <a:t>7</a:t>
            </a:fld>
          </a:p>
        </p:txBody>
      </p:sp>
    </p:spTree>
  </p:cSld>
  <p:transition>
    <p:comb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arnabas &amp; Saul Return to Antioch</a:t>
            </a:r>
            <a:br>
              <a:rPr sz="2800"/>
            </a:b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 Acts 12:25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ir mission was accomplishe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hey had taken the collection from Antioch to elders in Jerusalem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When they returned, they took Mark with the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Peter had gone to his mother’s house – 12:12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Mark wrote the book which bears his name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2C2-3631-4FB6-ADFA-05142806EF65}" type="slidenum">
              <a:t>8</a:t>
            </a:fld>
          </a:p>
        </p:txBody>
      </p:sp>
    </p:spTree>
  </p:cSld>
  <p:transition>
    <p:comb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 Change of Focus...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rom Jerusalem to Antioch  of Syria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rom Peter to Pau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hapter 13 is the changing poin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nd remember...</a:t>
            </a:r>
            <a:endParaRPr b="0" lang="en-US" sz="4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572000"/>
            <a:ext cx="8382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...But ye shall receive power, after that the Holy Ghost is come upon you: and ye shall be witnesses unto me both in Jerusalem, and in all Judea, and in Samaria, and unto the uttermost part of the earth. 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- Acts 1:8</a:t>
            </a:r>
            <a:endParaRPr b="0" lang="en-US" sz="2400" spc="-1" strike="noStrike">
              <a:solidFill>
                <a:srgbClr val="eae8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05D-7DE2-4DD9-92CA-709FD7E06E7F}" type="slidenum">
              <a:t>9</a:t>
            </a:fld>
          </a:p>
        </p:txBody>
      </p:sp>
    </p:spTree>
  </p:cSld>
  <p:transition>
    <p:comb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3:09:18Z</dcterms:created>
  <dc:creator>Terry W. Benton</dc:creator>
  <dc:description/>
  <dc:language>en-US</dc:language>
  <cp:lastModifiedBy>Frank D Vines</cp:lastModifiedBy>
  <dcterms:modified xsi:type="dcterms:W3CDTF">2007-02-11T14:25:33Z</dcterms:modified>
  <cp:revision>9</cp:revision>
  <dc:subject/>
  <dc:title>Go Tell The Good News – Part 1</dc:title>
</cp:coreProperties>
</file>